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32B4-CD28-43FF-9D33-FD6C792518D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E5DA-C5F9-48E2-BFD6-19067CF02E0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A36E-C656-4D36-82DD-11E236A5893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5D0D-D3AD-47EB-9457-3E1D09881FB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F1AF-E606-48C0-B1D3-6BC7D0F2E50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999-D82A-4A1D-A324-70847426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0F1-9D3A-48A4-AAA2-DB7994D2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4FE-5EBC-44D9-9EB2-0C44C57D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E49-04B9-4357-B9FC-DA78160A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A82B-5ADB-48E5-A02F-A59D109A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CFF4-7BB7-4E45-B277-5B7F282F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ECC1-A14D-454E-AD45-F9B01D2B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0CCC-D945-46E8-8EF2-2325E5B0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FB3A-E99D-4BEF-8163-DBD3E528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CA54-B51D-4140-A922-12819375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E458-E7EC-4C6E-A46E-8EA7BAD5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7CF-3507-44B3-8C02-5C91B78D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79BB-0289-48D9-8691-80EF8CC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8F6E-088D-4CF7-94EC-A112FE58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C111-4EE5-407B-A071-C86E7147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7C09-924E-422F-AABA-6B31DD95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DFFD-9CD1-41CA-8D3F-A8E627AA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A143-C237-4CAE-9AD5-B618BEF6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050A2-E179-4193-B2B9-A827FB79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CF06-9AAF-4B58-9923-8697C8E5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17C66-7A9C-41AD-BEB9-61673FA0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9C7B-89EA-406D-9675-1BC92F07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F35-F910-41D5-923A-9F6F8969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2035-74B4-4DFF-83BA-173BB01F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FB6F-2156-47ED-8E75-59721B86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6E0E-47C0-4198-BA0A-5AB27F64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3BA6-0A80-46C5-ADA2-092D701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6F24-66BF-46E3-A352-87CCBE23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6E1A-63E0-45FB-B3DF-9C894A4A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A0D5-8432-4FB5-AACC-D9196A49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30311-769F-4681-8C6E-64D5AECF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0E8F0-0859-4FE2-935A-CA23B02B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7FEFF-4BAD-4CD1-8F48-221D50B6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DCF-1152-4E8C-B6CC-6C00FBAB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6410-8F07-4FB9-A214-E6BB44CF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C42C-C8EA-4EF8-A061-C9B34D67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6C8A-F963-4BC6-B538-35AAFF1B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B3A09-0B99-49C2-92F9-FA5DFE90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09DCC-8807-40D6-9C54-6080D9FD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0F03-78FC-4CFD-8110-D13DB6B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38ABD-30F6-4767-A6AB-20D7E435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70D67-6F10-4824-901E-D71ED060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29ABA-46D0-436B-B047-321B6C17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0DD46-8B31-49A6-8592-3E08C89A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B8E-9DF3-4A45-9D1E-44BF16D8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9DF18-98F9-4293-AAB6-783E5C27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3328A-58C0-4339-816F-7C468773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34D5A-50DF-4B04-8603-653DBB42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1754B-0B44-4CA9-9570-0AFE5006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B16A4-41D4-4D81-B4F8-7FBD75F2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97A1E-360D-4971-BE11-9EBF4F37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E1CCC-DB36-4036-BCF3-C10ADDE2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73469-4941-4E09-BA95-57A963CA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A92EA-CCAE-478E-B83F-59D3652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FEE6B-AC77-4DA6-8FB1-24A0069D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48F-231E-490F-8E54-E2CF9407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73FF8-6663-4098-8E21-24747EFE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83610-C587-454F-B153-796BC7A6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1383D-8B13-4FCD-A7AB-AC472970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73082-7D66-4BFC-A908-64483AD2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2BA54-2759-4879-8A3B-46B72213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AA60D-4231-4907-B87C-0DEA6870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9B6A7-6E8B-43FE-9829-2973AA8E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CB307-7DC9-495F-8601-D29E2AA6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9ABD6-0B43-4E13-A815-989A28C5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65CDA-C442-45A2-BF3C-038AD2DE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8B5-19CB-4718-8B83-A546225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087C4-4236-4EE7-A211-7323C1BD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2AB7D-069E-4A2D-A0D5-28EB87E8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93B6E-361B-4AEC-9522-82867813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1B3-150E-46BF-9945-BA549DB3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89F-FC2F-4503-B3D1-FB3B9332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3508-E03F-4A22-AB62-94CBD536208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6B09-AD0F-4E25-9CBF-913297491D2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AEF3-4038-4D74-8D41-605EDF558E1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EC4F-38D6-4297-80E6-A0A201F3AED2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07B7-978E-44DA-AFCE-DF95FDD5BE6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4F41-C0E3-4F54-B44E-0F65C61584D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6242-96EE-4745-9EF2-DB1AAD8D81A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F159-FE12-434B-92D4-26AE6F16C50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F83B-30AF-4094-A0ED-C36AB535E20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7FAF-6C5F-43C6-B026-C8A0645DC65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AA83-995C-4518-A8BE-FD885D7DB38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0F50-8FA6-46E5-B06E-DC790B47F90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000000"/>
                </a:solidFill>
                <a:latin typeface="Arial"/>
              </a:rPr>
              <a:t>Aposentados/as que exercem atividade remuner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479520" y="936720"/>
            <a:ext cx="108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–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63600" y="6210360"/>
            <a:ext cx="108014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Gráfico 6"/>
          <p:cNvGraphicFramePr/>
          <p:nvPr/>
        </p:nvGraphicFramePr>
        <p:xfrm>
          <a:off x="573120" y="1344600"/>
          <a:ext cx="10326600" cy="48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Gráfico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344600"/>
                    <a:ext cx="103266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765000"/>
            <a:ext cx="1080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ecretaria de Previd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ubsecretaria de Regime Geral de Previdência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Coordenação-Geral de Estudos Previdenci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(61) 2021-5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34800" y="684360"/>
            <a:ext cx="1073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 por Aposentadoria* e UF –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34800" y="62355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71520" y="1268280"/>
          <a:ext cx="6408720" cy="4969080"/>
        </p:xfrm>
        <a:graphic>
          <a:graphicData uri="http://schemas.openxmlformats.org/drawingml/2006/table">
            <a:tbl>
              <a:tblPr/>
              <a:tblGrid>
                <a:gridCol w="1524240"/>
                <a:gridCol w="1331640"/>
                <a:gridCol w="1330560"/>
                <a:gridCol w="1260360"/>
                <a:gridCol w="961920"/>
              </a:tblGrid>
              <a:tr h="254160"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CLT - RAIS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o Deslig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71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12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1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8183520" y="1349280"/>
          <a:ext cx="1928880" cy="4876920"/>
        </p:xfrm>
        <a:graphic>
          <a:graphicData uri="http://schemas.openxmlformats.org/drawingml/2006/table">
            <a:tbl>
              <a:tblPr/>
              <a:tblGrid>
                <a:gridCol w="1436760"/>
                <a:gridCol w="492120"/>
              </a:tblGrid>
              <a:tr h="247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07880" y="765000"/>
            <a:ext cx="10850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Ativos por Aposentadoria* -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000080" y="6288120"/>
            <a:ext cx="1022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Gráfico 4"/>
          <p:cNvGraphicFramePr/>
          <p:nvPr/>
        </p:nvGraphicFramePr>
        <p:xfrm>
          <a:off x="1652760" y="1219320"/>
          <a:ext cx="7788240" cy="50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219320"/>
                    <a:ext cx="77882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Setor de Atividade e Faixa Etária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95160" y="1773360"/>
          <a:ext cx="10887120" cy="3070080"/>
        </p:xfrm>
        <a:graphic>
          <a:graphicData uri="http://schemas.openxmlformats.org/drawingml/2006/table">
            <a:tbl>
              <a:tblPr/>
              <a:tblGrid>
                <a:gridCol w="1400400"/>
                <a:gridCol w="1222200"/>
                <a:gridCol w="1222560"/>
                <a:gridCol w="1157040"/>
                <a:gridCol w="882720"/>
                <a:gridCol w="917640"/>
                <a:gridCol w="1025640"/>
                <a:gridCol w="1528560"/>
                <a:gridCol w="1530360"/>
              </a:tblGrid>
              <a:tr h="341280">
                <a:tc gridSpan="9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e Setor Atividade CLT - RAIS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8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Etá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8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GE Se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tiva mi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ústria de trans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 industriais de utilidade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ção Ci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ér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ção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pecuária, extração vegetal, caça e pes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5" name="CaixaDeTexto 2"/>
          <p:cNvSpPr/>
          <p:nvPr/>
        </p:nvSpPr>
        <p:spPr>
          <a:xfrm>
            <a:off x="450720" y="5877000"/>
            <a:ext cx="989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 Foi estabelecido um intervalo maior de faixa etária devido a erros de preenchimento na RAIS, o que explica a existência de aposentadoria em idades muito preco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0720" y="61437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587520" y="932040"/>
            <a:ext cx="108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 de Vínculos Ativos* por Setor de Atividade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79520" y="6202440"/>
            <a:ext cx="1080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Gráfico 7"/>
          <p:cNvGraphicFramePr/>
          <p:nvPr/>
        </p:nvGraphicFramePr>
        <p:xfrm>
          <a:off x="2228760" y="1511280"/>
          <a:ext cx="751860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Grá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511280"/>
                    <a:ext cx="75186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23880" y="836640"/>
            <a:ext cx="105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 por Faixa de Remuneração (Salário Mínimo) e Sexo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15880" y="6211800"/>
            <a:ext cx="1116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23880" y="1989000"/>
          <a:ext cx="10585440" cy="2052720"/>
        </p:xfrm>
        <a:graphic>
          <a:graphicData uri="http://schemas.openxmlformats.org/drawingml/2006/table">
            <a:tbl>
              <a:tblPr/>
              <a:tblGrid>
                <a:gridCol w="1012680"/>
                <a:gridCol w="681120"/>
                <a:gridCol w="722520"/>
                <a:gridCol w="725400"/>
                <a:gridCol w="668160"/>
                <a:gridCol w="736560"/>
                <a:gridCol w="736920"/>
                <a:gridCol w="722160"/>
                <a:gridCol w="654120"/>
                <a:gridCol w="654120"/>
                <a:gridCol w="653760"/>
                <a:gridCol w="654120"/>
                <a:gridCol w="655560"/>
                <a:gridCol w="654120"/>
                <a:gridCol w="654120"/>
              </a:tblGrid>
              <a:tr h="3970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1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de Remuner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0.5 a 1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 a 1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.5 a 2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 a 3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 a 4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 a 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 a 7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 a 1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 a 1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5 a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ñ class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97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 Ativos* por Faixa de Remuneração (Salário Mín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34800" y="6350040"/>
            <a:ext cx="1039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Gráfico 4"/>
          <p:cNvGraphicFramePr/>
          <p:nvPr/>
        </p:nvGraphicFramePr>
        <p:xfrm>
          <a:off x="233280" y="1506600"/>
          <a:ext cx="105444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506600"/>
                    <a:ext cx="105444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44520" y="606600"/>
            <a:ext cx="1105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Faixa de Remuneração (Salário Mínimo) e Sexo CLT - RAIS 2015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34800" y="6334200"/>
            <a:ext cx="1130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Gráfico 5"/>
          <p:cNvGraphicFramePr/>
          <p:nvPr/>
        </p:nvGraphicFramePr>
        <p:xfrm>
          <a:off x="896760" y="1300320"/>
          <a:ext cx="10182240" cy="51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Grá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300320"/>
                    <a:ext cx="1018224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987480" y="765000"/>
            <a:ext cx="1007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-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ângulo 2"/>
          <p:cNvSpPr/>
          <p:nvPr/>
        </p:nvSpPr>
        <p:spPr>
          <a:xfrm>
            <a:off x="987480" y="6093000"/>
            <a:ext cx="10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127160" y="1773360"/>
          <a:ext cx="9793080" cy="3887640"/>
        </p:xfrm>
        <a:graphic>
          <a:graphicData uri="http://schemas.openxmlformats.org/drawingml/2006/table">
            <a:tbl>
              <a:tblPr/>
              <a:tblGrid>
                <a:gridCol w="1461960"/>
                <a:gridCol w="2210040"/>
                <a:gridCol w="1800000"/>
                <a:gridCol w="2521080"/>
                <a:gridCol w="1800000"/>
              </a:tblGrid>
              <a:tr h="8920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ção Média Nominal em R$ por Tipo  de Desligamento e Faixa Etária na Aposentadoria* CLT - RAIS/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9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6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06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68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1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7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70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4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81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9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7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2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2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62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53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3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3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9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2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8-04T17:02:49Z</dcterms:modified>
  <cp:revision>455</cp:revision>
  <dc:subject/>
  <dc:title>Demografia</dc:title>
</cp:coreProperties>
</file>